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4569-23E2-4A4B-B87F-08328288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23E4-6DD5-4B7C-A15A-426878E1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8F8-0F86-4E7B-AD0F-A12C95510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9D50-3A69-48DB-9465-F49B647F1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7793-EC5C-4292-A235-2C4B40178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errara N. VEGF: an update on biological and therapeutic aspects. Curr Opin Biotechnol 2000;11:617–2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Ferrara N, Carver-Moore K, Chen H, et al. Heterozygous embryonic lethality induced by targeted inactivation of the VEGF gene. Nature 1996;380:439–42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Carmeliet P, Ferreira V, Breier G, et al. Abnormal blood vessel development and lethality in embryos lacking a single VEGF allele. Nature 1996;380:435–9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Poole AR. The growth plate: cellular physiology, cartilage assembly and mineralization. In: Hall BK, Newman SA, editors. Cartilage: molecular aspects. Boca Raton: CRC Press; 1991. p. 179–21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erber H-P, Ferrara N. Angiogenesis and bone growth. Trends Cardiovasc Med 2000;10:223–8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Li J, Zhang Y-P, Kirsner R. Angiogenesis in wound repair: angiogenic growth factors and the extracellular matrix. Microsc Res Tech 2003;60:107–14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Calibri"/>
              </a:rPr>
              <a:t>Goede V, Schmidt T, Kimmina S, Kozian D, Augustin H. Analysis of blood vessel maturation processes during cyclic ovarian angiogenesis. Lab Invest 1998;78:1835–94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95D6-3808-4078-BBEC-6C1D40A2C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A77C-40A3-4C97-ADBD-7C9AB1F8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on RT-P, Fan S-T, Wong J. Clinical implications of circulating angiogenic factors in cancer patients. J Clin Oncol 2001;19:1207–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3DFA-CEBD-4533-A159-12F128C9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143000" y="4346280"/>
            <a:ext cx="45720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03749-FCAF-4675-A352-C7C8E0ED6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ECC98-DC55-4096-94D7-D527DAE14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00320" y="800280"/>
            <a:ext cx="4260600" cy="3195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BB6-CA2E-4360-B3F5-7551F1F73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0047-6523-4EFD-A9A5-5B19BB47F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ABD2-EDC8-4F91-BF81-263A0A613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EF90-B357-4FCE-9798-646E1E776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B181-DEF3-4245-B7E8-B0FF2383B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27A7E-B83A-440B-B448-F4A7E994A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B7B9-7090-4817-9DF7-770AFDECD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B0D0-C8CD-4476-B78E-0ADC3E80B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8830-80C4-4AA5-BEC4-ED20E08B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B2F-8343-4E2B-9273-7245D5EE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99DD-067E-4BE4-BCBE-320DAC9F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D2DA-DC1D-476F-A932-850BA495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1081-2AA2-41CA-9451-11BB249E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E378-9473-4D34-92D4-DF3DD7EFC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375-86F9-4BC4-B27E-3C6C66A7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46CA-4FC1-4007-9DF1-7391A1C8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A58B-BD41-4F35-B47D-70C6D44B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9CA6-A020-4FD3-80E3-E824A08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B1A7-F0CD-411F-BAC8-F85D6A2E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4E05-556D-4B03-9533-F889B9BE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0066-9177-4A42-B478-41B926CD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6164C-490A-44DE-8548-5C172E86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C6B2-2AAA-49F0-BD3D-F9BFF11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0D26-95FD-4B21-8174-605E3CAD0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5060-264E-4E03-B44F-FC5FBD9E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9766-9A72-449B-B555-E7B33122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47A0-DE64-4BD4-A6AA-12CE7F36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E7EE-55CB-41A8-9C7B-11EA0439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05ED-FECB-4DF5-AD09-46309D30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5CBD-9AB4-4F34-A575-4C43CBFBD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676D-2042-49A4-A63E-9E9986B5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0AAE-6322-4F97-9A05-A45ED662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4863-E312-42E3-A833-7B15D625D658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25A2-EFAC-4ACE-95FF-418E33FC7279}" type="slidenum">
              <a:rPr b="0" lang="sr-Latn-C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гисане академске студије фарм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ULVERES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735440" y="5300640"/>
            <a:ext cx="38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 .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979640" y="177336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МАЦЕУТСКА ТЕХНОЛОГИЈ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6"/>
          <p:cNvSpPr/>
          <p:nvPr/>
        </p:nvSpPr>
        <p:spPr>
          <a:xfrm>
            <a:off x="-17640" y="14842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 СТЕПЕН УСИТЊЕНОСТИ ПОСТИЖ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ЕЈАВАЊ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З ОДРЕЂЕНА СИ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IV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а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сита означава дужину отвора сита изражену у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8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200, 8000, 5600, 4000, 2800, 2000, 1580, 1400, 1000, 710, 500, 355, 250, 125, 90, 63, 45, 38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 сита означава дужину отвора сита изражену у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µ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3480" y="67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552240" y="1557360"/>
            <a:ext cx="82123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финоће прашка може се одредити методом сејања при чему се корис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а си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. Jug. V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1.4.),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пен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итњености се исказује пре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ојева сит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а се корист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ко</a:t>
            </a:r>
            <a:r>
              <a:rPr b="0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е наведених терми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БИ  ПРАША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00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број 35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о 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55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%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е пролази кроз сито бр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8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сито б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80,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АН  ПРАШАК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5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125, 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иш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0%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 пролази кроз сито број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користи само ЈЕДНА бројна ознака за си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 97%  прашка мора 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лази кроз сито истог бро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им ако није другачије прописа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080" y="1700280"/>
            <a:ext cx="91440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КАО ОБЛИК ДОЗИРАЊА Л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826920" y="341460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а дисперзија једне или више лековитих супстанци одговарајућег степена уситњености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дозирани облик лековите 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 формулацију у којој је лековита супстан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j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а или 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шана са ексципијенсом да би се добио финални лековити обли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eњен за унутрашњу или спољашњу употреб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АК као лековити обл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63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НОСТИ ПР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годни за индивидуалну терап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и терапијски ефекат у односу на друге чврсте облике (таблете или капсул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орална примена таблета или капс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ањ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. супстанце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 у гастроинтестиналним течностим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орпција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 су од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антибиотских си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инје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узима са мало воде, млека или сока и погодни су за децу или старије особе које имају проблем са гутањем таблета или капс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АЦИ ПРАШКОВ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оузд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е код примене неподељених праш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здани за примену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екова јаког деловања у малим доза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дозирања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ш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годни за примену лекова који 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актив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желу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о маскирањ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пријат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са или мир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жина времена потребног за њихову припрему учинила је да се замењују таблетама и капсул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у Ph.Jug.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mix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standard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stabili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ipulve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одељени прашкови за оралну употре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pergent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ашкови за посип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рануле за оралну употреб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ituratio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ашкови или масти – смеша лек. супстанце најчешће јаког деловања и средства за допуњавање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360" y="1267920"/>
            <a:ext cx="9144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Е ПРАШКОВА 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 -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угословенској фармакопеји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85840" y="2143080"/>
            <a:ext cx="86439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ЛНУ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ULVERES PERORALIA Ph.Jug. 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ulveres perorales Ph.Eur. 6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GRANULE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GRANUL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ПРИМЕНУ НА КОЖУ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ULVERES DERMICUM, Pulveres ad usum dermicum Ph.Eur.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ОРАЛНИХ РАСТВОРА И СУСПЕНЗИЈА 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LIQUIDA PERORAL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 -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УШИ 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E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РЕКТАЛНЕ РАСТВОРЕ И СУСПЕНЗИЈЕ –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TA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ЗРАДУ КАПИ И ЛОСИОНА ЗА ОЧИ – монограф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HTALMICA, Ph.Eur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80" y="1125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Jug V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ОРАЛНУ УПОТРЕБУ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PERORALIA</a:t>
            </a:r>
            <a:br>
              <a:rPr sz="1800"/>
            </a:b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Eur. V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i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: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, ORAL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peroral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24000" y="1773360"/>
            <a:ext cx="8569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парати који се саст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чврст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реситих и сувих честиц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ог степена уситњеност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држ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ну или више лековитих супстанц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ли без помоћних материј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генси мириса и укус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зрађују се ка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 н о д о з н и  препарати 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ковани у  папир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 кесице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 ш е до з н</a:t>
            </a: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парати (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ом кашичицом или малом посуд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њују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 најчешће тако што се размуте у води или некој другој течности или се прогутају директно са водом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и прашков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h.Eur. VI/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 или вишедозни прашкови који садрж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ел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бонат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генкарбонат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употребе се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варају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пергују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води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се развија угљен-диоксид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9966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246600" y="5805360"/>
            <a:ext cx="86698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у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истрибуцији МОРА да се обезбеди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кробиолошка чистоћа препарата</a:t>
            </a:r>
            <a:r>
              <a:rPr b="1" lang="sr-Latn-CS" sz="2000" spc="-1" strike="noStrike">
                <a:solidFill>
                  <a:srgbClr val="00ccff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АШКОВА ЗА ОРАЛНУ УПОТР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50920" y="1916280"/>
            <a:ext cx="87138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спитује се методом сејања или неко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 погодном методом (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V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12)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садржаја лек.супстанце</a:t>
            </a:r>
            <a:r>
              <a:rPr b="0" lang="en-US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д прашкова са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ем лек. супстанц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2 mg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зи или ако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чини мање од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%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 (морају да одговарају захтевима теста Б за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 у једнодозним препаратима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ређује се појединачно садржај у 10 доза и просечан садржај активне супстанц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Б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репарат задовољава захтеве испитивања ако све дозе имају лековиту супстанцу у опсегу 75% – 125% од просечног садржаја и највише једну дозу са мање од 85 или више од 115% од просечног садржај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ипа ДИСПЕР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код којих ј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а или више супстанц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дисперзна фаз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орен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дељ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ш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гова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 другој супстанц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о сред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љашњ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ворена фа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арирање) ма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их паковања прашкова – израчунава се просечна маса 20 појединачних доза. Дозвољени проценат одступања зависи од просечне масе. Са повећањем масе опада проценат одступ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е појединачне масе смеју одступати више од дозвољеног, а ниједна више од двоструке вредности дозвољеног процента одступ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зводи се ако се изводи испитивање на уједначеност 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масе подељених доза из вишедозних контејнера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Ph.Eur. VI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ва се просечна маса 20 појединачних доза. Највише две масе смеју одступати од просечне за више од 10%, а ниједна више од 20%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4680" y="105264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3"/>
          <p:cNvSpPr/>
          <p:nvPr/>
        </p:nvSpPr>
        <p:spPr>
          <a:xfrm>
            <a:off x="297000" y="1700280"/>
            <a:ext cx="853272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х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х агрегата честиц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х за </a:t>
            </a:r>
            <a:r>
              <a:rPr b="1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1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лну употреб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дну или виш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х супстанц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или без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ћних материја, боја или коригенс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као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одозн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ирне капсул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сице или бочиц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шедозн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овање са приложеном кашичицом или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м  посудом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обезбедити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у 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оћу препарат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садржи испарљиве компоненте или супстанце које треба заштитити – чување у добро затвореним контејнерим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тају се директно, или се жваћу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растварају или диспергују у води или некој другој течности пре примене</a:t>
            </a:r>
            <a:r>
              <a:rPr b="0" lang="sr-Latn-C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гранула по захтевима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Eur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05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дозних једин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гран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једначеност садржаја лековите супстанц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гранула са садржајем лек.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2 m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ако она чини мање 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препарат има више од једне лек. 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е односи на ону која испуњава наведене усло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једначеност масе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препарата гран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в облож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изводи се ако се изводи испитивање на уједначеност садржа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масе подељених доза из вишедозних контејне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800" y="2492280"/>
            <a:ext cx="8410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ГРА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ФЕРВЕСЦЕНТНЕ 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ЕЋЕ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ГРАН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 СА МОДИФИКОВАНИМ ОСЛОБАЂАЊЕМ ЛЕК:СУПСТАНЦ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253080" y="2565360"/>
            <a:ext cx="8730000" cy="32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РВЕСЦЕНТНЕ (шумеће) гран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ложене гранул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ад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е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му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 или соли и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аз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ао калијум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лц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а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хидрогенкрбона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 употребе се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варај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спергуј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д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ем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развија угљен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окс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ЕФЕРВЕСЦЕНТНИХ (ШУМЕЋИХ) ГРАН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на доза ефервесцентних гранула пренесе се у тиквицу која садрж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 m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чишћене воде загрејане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ºC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станак стварања мехурића је доказ да су се грануле раствориле или диспергова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се понавља на још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јединачних до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вим испитивањима грануле треба да се распадну з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инут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13"/>
          <p:cNvSpPr/>
          <p:nvPr/>
        </p:nvSpPr>
        <p:spPr>
          <a:xfrm>
            <a:off x="2273400" y="1125360"/>
            <a:ext cx="43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684360" y="227664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ГРАН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вишедозни препарати превучени – обложени са једним или више слојева смеше помоћних ма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не материје за облагање се наносе на грануле у виду раствора или суспензија, уз истовремено сушење, при чему растварач испар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или суспензија за облагање садржи полимер у одговарајућем растварачу, пластификаторе и бо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ОБЛОЖЕНИХ ГРАНУЛ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280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 из гран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vitr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 се прати ослобађање/количина растворене активне супстанце у познатој запремини течног медијума у одређеним временским интервалима. Растворена количина лековите супстанце се изражава као проценат од декларисаног садржај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4"/>
          <p:cNvSpPr/>
          <p:nvPr/>
        </p:nvSpPr>
        <p:spPr>
          <a:xfrm>
            <a:off x="2341080" y="1062000"/>
            <a:ext cx="43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166760" y="200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4360" y="2276640"/>
            <a:ext cx="7775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ТРО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ју се превлачењем гранула ацидорезистентном превлаком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солвентним филм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не облоге – кополимери метакрилне киселине и естри фталне кисел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</a:t>
            </a:r>
            <a:r>
              <a:rPr b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NULA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Е СА МОДИФИКОВАНИМ ОСЛОБАЂАЊЕМ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ожене или необложене грануле добијене коришћењем специјалних помоћних материја и/или посебним технолошким поступцима, тако да се модифик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</a:t>
            </a:r>
            <a:r>
              <a:rPr b="1" i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сто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обађања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И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86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а фаза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z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но средство -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er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е фазе могу би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сови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416560" y="395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7"/>
          <p:cNvSpPr/>
          <p:nvPr/>
        </p:nvSpPr>
        <p:spPr>
          <a:xfrm>
            <a:off x="6934320" y="1143000"/>
            <a:ext cx="2209680" cy="1905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575480" y="136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9"/>
          <p:cNvSpPr/>
          <p:nvPr/>
        </p:nvSpPr>
        <p:spPr>
          <a:xfrm>
            <a:off x="7543800" y="1523880"/>
            <a:ext cx="304920" cy="22860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8367840" y="121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1"/>
          <p:cNvSpPr/>
          <p:nvPr/>
        </p:nvSpPr>
        <p:spPr>
          <a:xfrm>
            <a:off x="8153280" y="1523880"/>
            <a:ext cx="30492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7864560" y="1720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3"/>
          <p:cNvSpPr/>
          <p:nvPr/>
        </p:nvSpPr>
        <p:spPr>
          <a:xfrm>
            <a:off x="7956720" y="1989000"/>
            <a:ext cx="457200" cy="38124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735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5"/>
          <p:cNvSpPr/>
          <p:nvPr/>
        </p:nvSpPr>
        <p:spPr>
          <a:xfrm>
            <a:off x="7543800" y="2209680"/>
            <a:ext cx="304920" cy="304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6"/>
          <p:cNvSpPr/>
          <p:nvPr/>
        </p:nvSpPr>
        <p:spPr>
          <a:xfrm flipV="1">
            <a:off x="5796000" y="1628640"/>
            <a:ext cx="18288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7"/>
          <p:cNvSpPr/>
          <p:nvPr/>
        </p:nvSpPr>
        <p:spPr>
          <a:xfrm flipV="1">
            <a:off x="6084720" y="1699920"/>
            <a:ext cx="2232360" cy="86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8"/>
          <p:cNvSpPr/>
          <p:nvPr/>
        </p:nvSpPr>
        <p:spPr>
          <a:xfrm flipV="1">
            <a:off x="6300720" y="2204640"/>
            <a:ext cx="2016360" cy="36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9"/>
          <p:cNvSpPr/>
          <p:nvPr/>
        </p:nvSpPr>
        <p:spPr>
          <a:xfrm flipV="1">
            <a:off x="5940360" y="2421000"/>
            <a:ext cx="180036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0"/>
          <p:cNvSpPr/>
          <p:nvPr/>
        </p:nvSpPr>
        <p:spPr>
          <a:xfrm flipV="1">
            <a:off x="5796000" y="2960280"/>
            <a:ext cx="1655640" cy="25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НУЛА СА МОДИФИКОВАНИМ ОСЛОБАЂАЊЕМ ЛЕКОВИТЕ СУПСТАНЦ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55280" y="3068280"/>
            <a:ext cx="8064360" cy="34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ослобађања лековите супстанце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ран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циљем да се покаже да се лековита супстанца ослобађа на одговарајући 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ssolution test for solid dosage form design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9.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иниције су дате у монографиј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оралну употребу и Гран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оћне 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обољшање дисперговања или растварања и спречавање очвршћавања талог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и се на једнодозне обл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обро затвореним посуда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ча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мора бити навед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 изр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итуис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или суспенз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 чувања и рок трајања реконституиса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ГРАНУЛЕ за израду раствора и суспензија за оралну употреб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3960" y="105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Jug. V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1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VERES AD USUM DERMICUM</a:t>
            </a:r>
            <a:br>
              <a:rPr sz="1800"/>
            </a:b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.Eur. 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sr-Latn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i="1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DERS FOR CUTANEOUS APPLICATION- Pulveres ad usum dermicu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е се од чврстих, растреситих, сувих честица, различитог степена уситње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еју имати грудви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 једну или више лековитих супстанци, са или без помоћних матер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намењени за употребу на веће отворене ране или озлеђену кожу морају бити СТЕРИ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ђују се ка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j 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 н о д о з н 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и ш е д о з н 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ују се у посуде са перфорираним улошком или са механичким средством за распршивање или под притис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гнир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су за спољашњу употребу и да 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се то захт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зради, паковању, чувању и дистрибуцији мора да се обезбеди микробиолошка чистоћа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 ПРАШКОВА ЗА СПОЉАШЊУ УПОТРЕ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м сеј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дозних јединиц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једнодозних прашк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h.Eur. 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овите супстанц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прашкова са садржајем лек. супстанц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2 m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зи или мање 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дносу на укупну ма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ма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дозна паковања прашк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 када јe деклариса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а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току израде, паковања, чувања и дистрибуције фармацеутских препарата треба предузети одговарајуће мере да би се осигурао њихов микробиолошки квалите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реба да су у складу с критеријумима који су наведе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ЈА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који МОРАЈУ да буду стерилни према релевантној монографији лековитог препарата и други препарати који су означени као стери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ст на стерилност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/2.6.1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181080" y="23270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ОЉАШЊ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у као и препарати за примену дуж респираторног тракта, сем оних за које се захтева да буду стерилни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упан број аеробних живих микроорганизама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 укупно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 и гљивиц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теробактерија и неких других Гра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eudomonas aeruginosa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уство</a:t>
            </a:r>
            <a:r>
              <a:rPr b="1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hylococcus aureus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.6.1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1.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биолошки квалитет фармацеутских препрата у 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.Jug.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09680" y="232704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ТЕГОРИЈА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ОРАЛНУ и РЕКТАЛНУ примену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ише од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бних бактер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више од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љив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ДА ПРА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91520" cy="49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 компоненте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 степен уситњено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еравањ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след мерења и преношења у тарионик од суспстанце заступљене у најмањој количини – ка већој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ак су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уминозне, обојене и супстанце јаког дејства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жно са десна на лево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ц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√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турирани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шков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турације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шањем јако или врло јако делујуће супстанце са индиферентном супстанцом, најчешће лакотозом у конц.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:10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:100;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хомогене смеше са истим садржајем лековите супстанце у сваком делу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7216920" y="10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или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укапавање, распршивање, удувавање у ушни канал или за испирање уши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уш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спреј препарат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уш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уши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пони за уши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, супозитор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T (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лз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си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a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е за спољашњу или вагиналну 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 типа дисперз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4360" y="2133360"/>
            <a:ext cx="82296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 да одговарају захтевима датим у монографији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кују се у одговарајућу амбалажу са апликато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уши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ricularia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нос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alia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ил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намењени за примену у носне шупљине, у циљу постизања локалног или системског дело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но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и течни спреј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за н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спирање 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 за но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н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су за ушмркавање у носне шупљине помоћу одговарајућег аплик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 захтевима датим у монографиј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спољашњу употребу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је таква да се оне локализују у носној шупљини, што се проверава одговарајућим методама за одређивање величине честица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ентералн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рилни препарат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се примењују путем инјекције, инфузије или имплантацијом у људско или животињско те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арентералних препарат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енске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ти за инјекције и ив.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инј. и ив. инфу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лан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 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е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ерилне</a:t>
            </a:r>
            <a:r>
              <a:rPr b="1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коване у одговарајућу амбалаж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меш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одређеном запремином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писаног стерилног вехикулума / растварач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 формирају бистр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актично без честица или хомоген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тварања или суспендовања одговарају захтевима за инјекције или ив. инфузије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лек.супст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рање ма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е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рас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јекције и интравенске инфузиј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 -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hala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или чврсти препарати у облику паре, аеросола или прашкова, намењени за примену у доњем делу респираторног тракта са циљем постизања локалног или системског делов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препарата за инхал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инха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репарати за распрши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улизаци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инхалацију у инхалаторима под притиском, са доз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 су као прашкови за једнократну примену, прашкови за вишекратну примену или прашкови који се добијају из компактних чврстих обл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њују се путем инхалат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826560" y="2420640"/>
            <a:ext cx="721044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 садржаја ослобођене д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еродинамичко одређивање ситних честиц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ослобођених доза по вишедозном контејн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за инхалац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препара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њени за ректалну апликацију са циљем да се постигне системско или локално деловање или у дијагностичке сврх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 ректалних препа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суспензије за рект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 препара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е п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и тамп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према конзистенц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уп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 за оч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је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ВР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, гел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ВРСТИ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шк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озито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апић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облик као сист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1197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 и таблете из којих се израђују раствори и суспензије за ректалну примену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ју се или суспендују у води непосредно пре аплика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да садрже помоћне материје које олакшавају  растварање или дисперговање или спречавају слепљивање честица у суспенз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љив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 за израду ових раствора или суспензија морају да се распадну у води 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знача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игнатури мора да стој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чин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пре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тал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 чувања и рок употреб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нституисаног раствора или 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"/>
          <p:cNvSpPr/>
          <p:nvPr/>
        </p:nvSpPr>
        <p:spPr>
          <a:xfrm>
            <a:off x="1282680" y="12556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ШКОВИ</a:t>
            </a:r>
            <a:r>
              <a:rPr b="1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ulve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0" y="1963800"/>
            <a:ext cx="89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тепен уситњености супстанце:</a:t>
            </a:r>
            <a:r>
              <a:rPr b="0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овим појмом се  подразумева  уситњеност мате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тепена праш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</a:t>
            </a:r>
            <a:r>
              <a:rPr b="0" lang="sr-R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блик дозирања лека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ековити препара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вр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и препар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могене диспер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е или више супстан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препарата дро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е се израђују са или без додатка помоћних материја).</a:t>
            </a:r>
            <a:r>
              <a:rPr b="0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ачн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ци дозирања за разне намене 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кстерно или интерно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ли као међупроизвод</a:t>
            </a:r>
            <a:r>
              <a:rPr b="0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 производњ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г другог коначног 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е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суле, супозитор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1"/>
          <p:cNvSpPr/>
          <p:nvPr/>
        </p:nvSpPr>
        <p:spPr>
          <a:xfrm>
            <a:off x="179280" y="1230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степена уситњености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2"/>
          <p:cNvSpPr/>
          <p:nvPr/>
        </p:nvSpPr>
        <p:spPr>
          <a:xfrm>
            <a:off x="1224000" y="1962000"/>
            <a:ext cx="28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лековите супстан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ј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202360" y="2125800"/>
            <a:ext cx="3311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едност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тација места прим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5580000" y="3890880"/>
            <a:ext cx="255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зистенција пре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851280" y="5589720"/>
            <a:ext cx="244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једначеност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аја лек. супстанц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ност дозир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1246320" y="4762440"/>
            <a:ext cx="18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рапијска ефикасност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755640" y="3251160"/>
            <a:ext cx="18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иолошка расположивост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1"/>
          <p:cNvSpPr/>
          <p:nvPr/>
        </p:nvSpPr>
        <p:spPr>
          <a:xfrm>
            <a:off x="222120" y="100476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 степена уситњености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"/>
          <p:cNvSpPr/>
          <p:nvPr/>
        </p:nvSpPr>
        <p:spPr>
          <a:xfrm>
            <a:off x="471600" y="1773360"/>
            <a:ext cx="8143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 уситњености супстанце (величина честиц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че на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рзину ослобађања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/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стварања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ковите</a:t>
            </a: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пстанце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се повећава укупна слободна површина честица лековите супстанце која је у контакту са растварачем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течности)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ћање брзине растварања</a:t>
            </a:r>
            <a:r>
              <a:rPr b="0" i="1" lang="sr-Latn-C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√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сорпцију лека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растварања је фактор који ограничава апсорпциј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"/>
          <p:cNvSpPr/>
          <p:nvPr/>
        </p:nvSpPr>
        <p:spPr>
          <a:xfrm>
            <a:off x="324000" y="1052640"/>
            <a:ext cx="8280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једначеност садржаја лековите супстанц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итњавањем се повећава број честица прашка по јединици масе фармацеутског облика, што повећава тачност дозир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бедност примене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а величина честица код парентералн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ритација места примене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а величина честица код офталмолошких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билност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честица утиче на физичку стабилност грубих дисперзија (суспензија). Честице мање величине се спорије таложе и постиже се боља хомогено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3-08-31T07:41:44Z</dcterms:modified>
  <cp:revision>13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_Confidentiality">
    <vt:lpwstr>Restricted</vt:lpwstr>
  </property>
  <property fmtid="{D5CDD505-2E9C-101B-9397-08002B2CF9AE}" pid="3" name="MSIP_Label_9d258917-277f-42cd-a3cd-14c4e9ee58bc_ActionId">
    <vt:lpwstr>023c06de-155e-4993-a619-d0c39c952c2c</vt:lpwstr>
  </property>
  <property fmtid="{D5CDD505-2E9C-101B-9397-08002B2CF9AE}" pid="4" name="MSIP_Label_9d258917-277f-42cd-a3cd-14c4e9ee58bc_ContentBits">
    <vt:lpwstr>0</vt:lpwstr>
  </property>
  <property fmtid="{D5CDD505-2E9C-101B-9397-08002B2CF9AE}" pid="5" name="MSIP_Label_9d258917-277f-42cd-a3cd-14c4e9ee58bc_Enabled">
    <vt:lpwstr>true</vt:lpwstr>
  </property>
  <property fmtid="{D5CDD505-2E9C-101B-9397-08002B2CF9AE}" pid="6" name="MSIP_Label_9d258917-277f-42cd-a3cd-14c4e9ee58bc_Method">
    <vt:lpwstr>Standard</vt:lpwstr>
  </property>
  <property fmtid="{D5CDD505-2E9C-101B-9397-08002B2CF9AE}" pid="7" name="MSIP_Label_9d258917-277f-42cd-a3cd-14c4e9ee58bc_Name">
    <vt:lpwstr>restricted</vt:lpwstr>
  </property>
  <property fmtid="{D5CDD505-2E9C-101B-9397-08002B2CF9AE}" pid="8" name="MSIP_Label_9d258917-277f-42cd-a3cd-14c4e9ee58bc_SetDate">
    <vt:lpwstr>2022-09-17T17:20:33Z</vt:lpwstr>
  </property>
  <property fmtid="{D5CDD505-2E9C-101B-9397-08002B2CF9AE}" pid="9" name="MSIP_Label_9d258917-277f-42cd-a3cd-14c4e9ee58bc_SiteId">
    <vt:lpwstr>38ae3bcd-9579-4fd4-adda-b42e1495d55a</vt:lpwstr>
  </property>
</Properties>
</file>